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6535-B76D-4BCB-84E0-DAE3262F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B24-7525-4042-A9D8-A329B6EA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E7B-4086-4A4A-9944-FD1AD6BA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2C7-62CF-4001-A900-3A379DCD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F51F-2972-4089-A38F-C835D141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CD74-A753-4CCA-9F20-612B7F81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837D-FA9A-4C82-BD1E-DC18080C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481D-5736-4FAE-BF2C-4F22C30D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5A24-682F-4AEF-97DD-E8D4BA61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AF5F-2D9F-476A-8D31-078C8850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03B2-9A10-49D1-85D2-58B716D1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D10D-965C-488D-BFE8-CE570F39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51F2-7D4D-4EEF-AF39-8CD6053A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3979-8F8A-42EC-9229-DF5EFF3B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0588-4603-4461-917C-A735BB00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929C-6D13-4145-AAB3-847881F0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F903-83DA-4709-BCE2-1F896A2F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CB07C-A8D3-438A-A692-8193A43D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AA4D8-B132-4280-84E0-8B276198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B01CE-0231-459A-A1F6-C8BC0CF8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A338D-B950-42F2-8F71-585DD6DB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DB206-55FD-4D99-89ED-0AB17F20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6F94-2202-4722-8C91-A7618FCA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1D762-BFEF-4D8E-8DDB-BD66950F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A481E-A713-4C3A-81A4-0DD5AFF9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CA8D8-7D0C-46B4-B208-5FF7C52E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8499B-D5FE-4A28-9DE2-6040C952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47A2-9DB8-4BFC-A7E7-ECCFC95A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73211-C842-4566-B2E3-141B0262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7C88C-B7E6-4E38-8552-3B885F80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28405-0E4D-46C3-BFD3-2B32849D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3FEFF-F565-4114-8775-E6C17B95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22BE2-886A-4F8D-ACC6-0E162F24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921-C7D3-4760-83B4-3C5C67D5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2EC88-8154-4744-B6F0-B894411E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4427D-F312-4E93-9F49-BDA1C1F0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F4563-44FC-410B-879C-5B3D50D3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E8E20-B6DA-4263-8390-91B25721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92EAB-F277-443D-8915-8CD47C30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8360D-86BB-4CE9-8958-3BE9E378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7AF54-B68D-4F28-9819-9618D3F5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16A56-D3AA-4591-B6E6-2799E3C5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02F96-8FCF-4E06-B38A-192E3B85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C0E58-4285-49C6-84E4-B05785A3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4CB-9393-4D78-B660-A83F0AE5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62F3D-EF4A-4FF9-B682-E6E7D530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CF39D-2FEF-4428-B832-7679F361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C0FCB-4617-41B6-9E59-0B873664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0FA8B-13F7-4C3C-A175-5C7D6BD0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51FF9-B99A-4728-A080-3D4256A8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B66C7-11AF-40CC-9C43-B34CB801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86775-A3D0-4378-A26E-C12AE519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26A3B-3382-4EB6-B0DB-14EA637D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E1DCB-159F-4695-BE63-309566B9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B286B-3447-4FB2-8493-9C91CF31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B4B-F927-47AB-A200-5B4B0153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07799-4C0D-4C45-81E8-50F3579D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AD952-2D98-44F0-8BC3-CEC9ADA5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EA2E8-6DF3-458B-BFE9-D6FD84E6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63608-55CA-46CE-A396-9391B5C7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38375-2B40-4AAE-B0C9-EC564B72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22170-F8E3-40C0-8F65-6F1EA923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3FFC1-CD43-4E64-B3B9-3A543C0E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D8225-F67A-493C-98BC-BB23DA33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D3162-E078-43FC-89C8-C524E579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D865A-8492-47D2-9C72-1A8F998C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B3F5-882F-49E2-B88A-B22D4F39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6EE4B-4DE8-400F-8D90-F6C13523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8C009-4BC6-41DA-9F2F-F6DEBA2C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20064-C988-4B91-B832-A27CC293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6E4-6F5D-4FFF-9526-0ED25A26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5BE-4EF5-4FEA-A5F4-EA908FAB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0403-35F9-434A-B0D3-854F2468A6D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EE63-B569-43EB-8283-2FDFF5C8860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C896-03EA-4E1B-BFC6-101DF044DBE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6A35-D2E0-4566-BD01-2C6970D10EF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DD44-4DB7-4C96-9774-ADDAAE65BB2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8034-57B8-4FE0-9C4E-5C4E814B8EF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 Klein and Danielle Mackinto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ultiplier Analysi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 increase in spending will bring about an even bigger increase in EGD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find the multipli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DP/∆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number tells us, for every $1 increase in spending, how much of an increase in EGDP we will g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Oversimplified Multiplier Formula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 / (1 – MP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PC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ope of consumption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/∆DI = ∆C/∆RGDP (when I, G, X-IM are consta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ultiplier effect takes place whenever there’s a change in spending at all levels of GDP; it doesn’t matter which component of AD we’re using: C,G,I, or (X-IM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duced vs. Autonomou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040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a0b0"/>
                </a:solidFill>
                <a:latin typeface="Arial"/>
              </a:rPr>
              <a:t>Indu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23920" y="144792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a0b0"/>
                </a:solidFill>
                <a:latin typeface="Arial"/>
              </a:rPr>
              <a:t>Autono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236196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C that are caused by changes in GD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lustrated by movement along expenditure sche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ultiplier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7960" y="228564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anges in C that aren’t caused by changes in RGD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uses: increase of wealth, price level changes, future expect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 changes at all levels of RGD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uses shift of expenditure schedule and changes in EGD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s a multiplier effe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aradox of Thrift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 decide to save more at every level of GD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 are spending less, which causes a multiplied decrease in EGDP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reduces disposable income, giving us less to save (or spen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our attempt to increase savings, we have reduced our ability to sa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Lowering the Value of the Multiplier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conomy grows, enabling us to spend mo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DP increases, DI increases, C increa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of that spending will be on foreign go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 we spend more on foreign goods, we spend a little less on our 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r GDP will not rise as much as expected with the oversimplified multipli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ariable net exports lower the value of the multipli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kes expenditure schedule flat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2:35:17Z</dcterms:created>
  <dc:creator>Danielle Mackintosh</dc:creator>
  <dc:description/>
  <dc:language>en-US</dc:language>
  <cp:lastModifiedBy>HP Authorized Customer</cp:lastModifiedBy>
  <dcterms:modified xsi:type="dcterms:W3CDTF">2009-01-27T21:49:02Z</dcterms:modified>
  <cp:revision>5</cp:revision>
  <dc:subject/>
  <dc:title>Unit 4: Chapter 27</dc:title>
</cp:coreProperties>
</file>